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1F2-28EF-4641-855B-D139405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D54-1531-4D34-9D1F-00795A7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321-212D-478D-B38F-C1D972C3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632-24FB-4198-8C54-15102D59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B76-0318-4999-B753-318C9446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9CA-830F-4251-88FB-A889CF8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D3D6-8F0B-4B3A-9CFE-229C9F40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EB59-2A2C-4803-B469-5307DD5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CD53-1451-46A0-BA90-C0F0A53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1750-6F55-41F5-BE40-202CDCFA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11FD-64D9-4781-B197-2201D84B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FA6-600E-4486-88E1-65FB35C0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14B-D500-4C90-BCEC-68E1A29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49E4-5FB2-4B9F-9044-018C52A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CB85-5DF6-4151-B921-383B4F4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25D3-3611-45E3-BE7C-16415E9A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E57-EC67-4CC1-B270-BD12155D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B71-D46A-42BD-A470-4A7C16F8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9BE-66A6-4FD7-BB88-9E7E9F4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78C-FDCC-43CF-A6EB-3E2A4AF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E7A-6C19-406E-BC79-FA8A0E6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E16-38E9-4122-8C00-D6B1E991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2ED-5ADE-4990-B19F-FD1BF83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68A-0AD5-4468-ABBD-0E015E3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B648-E07E-4C8B-AFF1-2AD44A5A111D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2D6D-74D1-420E-AEF3-ED860FBD6FA0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Brand Food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Wyatt Johnson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robl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oes off brand foods taste the same as name brand food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Hypothesi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predict that the off brand foods will taste just the same as name brand food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2720" y="-4348080"/>
            <a:ext cx="491472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882720" y="-4348080"/>
          <a:ext cx="7331040" cy="15555960"/>
        </p:xfrm>
        <a:graphic>
          <a:graphicData uri="http://schemas.openxmlformats.org/drawingml/2006/table">
            <a:tbl>
              <a:tblPr/>
              <a:tblGrid>
                <a:gridCol w="1213920"/>
                <a:gridCol w="216000"/>
                <a:gridCol w="441000"/>
                <a:gridCol w="606960"/>
                <a:gridCol w="607320"/>
                <a:gridCol w="606960"/>
                <a:gridCol w="606960"/>
                <a:gridCol w="607320"/>
                <a:gridCol w="606960"/>
                <a:gridCol w="606960"/>
                <a:gridCol w="607320"/>
                <a:gridCol w="603360"/>
              </a:tblGrid>
              <a:tr h="5508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name brand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Off brand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2164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336840" y="339840"/>
          <a:ext cx="609480" cy="5173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09800" y="-4348080"/>
            <a:ext cx="49147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82720" y="-4348080"/>
            <a:ext cx="491472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914400" y="2057400"/>
          <a:ext cx="6705720" cy="15525720"/>
        </p:xfrm>
        <a:graphic>
          <a:graphicData uri="http://schemas.openxmlformats.org/drawingml/2006/table">
            <a:tbl>
              <a:tblPr/>
              <a:tblGrid>
                <a:gridCol w="1752480"/>
                <a:gridCol w="281160"/>
                <a:gridCol w="31428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336840" y="339840"/>
          <a:ext cx="609480" cy="5173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09800" y="-4348080"/>
            <a:ext cx="491472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5800" y="1938240"/>
            <a:ext cx="6781680" cy="410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09480" y="1676520"/>
          <a:ext cx="7619760" cy="9832680"/>
        </p:xfrm>
        <a:graphic>
          <a:graphicData uri="http://schemas.openxmlformats.org/drawingml/2006/table">
            <a:tbl>
              <a:tblPr/>
              <a:tblGrid>
                <a:gridCol w="846360"/>
                <a:gridCol w="847080"/>
                <a:gridCol w="1090800"/>
                <a:gridCol w="601920"/>
                <a:gridCol w="847080"/>
                <a:gridCol w="846720"/>
                <a:gridCol w="846360"/>
                <a:gridCol w="847080"/>
                <a:gridCol w="8463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14520" y="-1477800"/>
          <a:ext cx="609840" cy="5173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the off brand crackers more than the name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name brand pretzels than the off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ore people liked the off brand cheez-it than the name br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30:50Z</dcterms:created>
  <dc:creator>STERLING  USD376</dc:creator>
  <dc:description/>
  <dc:language>en-US</dc:language>
  <cp:lastModifiedBy>USD376</cp:lastModifiedBy>
  <dcterms:modified xsi:type="dcterms:W3CDTF">2010-02-11T17:15:01Z</dcterms:modified>
  <cp:revision>3</cp:revision>
  <dc:subject/>
  <dc:title>Brand Foods</dc:title>
</cp:coreProperties>
</file>